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B03AF7-DAF1-466F-8151-60B0C75952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Img"/>
          </p:nvPr>
        </p:nvSpPr>
        <p:spPr>
          <a:xfrm>
            <a:off x="1798200" y="473040"/>
            <a:ext cx="317988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889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09480" y="2577960"/>
            <a:ext cx="679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284800" y="263520"/>
            <a:ext cx="118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6440" bIns="464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ass Exercise 1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1/12/95; v 1.0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08400" y="8740800"/>
            <a:ext cx="2031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tructor Training for the PSP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CE0E57-06F9-4C5D-9423-2B0B922FD6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7CFC21-5451-4CD8-9289-3CADA1C82F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ABF1A8-4651-42AA-804E-49C3B6149A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798560" y="473040"/>
            <a:ext cx="3179880" cy="2384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2FD7A7-1FA4-48DE-BD28-E05F6CFF25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4A6C21-D73C-4C67-92C5-3495144A77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F73538-C87C-4792-AA9F-DFC1EC1475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B27E70-DBBC-4B27-B7FD-5C4652A481D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185BE6-481D-4697-9D25-52E490B8F7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AB2CA0-E553-4FFE-B7B2-3064589117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47D6E9-4A7F-402A-9678-C3F44B4338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9BF9B8-9428-48C6-80A8-53B4FD4AB7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479D3E-99FC-4911-988E-BCB1AE84EC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29AB34-2016-4EF7-868B-DD3285F9AF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2ECA6F-F9BD-4321-86A1-6A1A728EA1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F8BA7B-2BB1-4BD2-976B-B069A86AFC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8C0F8C-2AB3-4C25-9390-2AB24A2284F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C59CFE-5444-4584-8D78-4F9BE99A7E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0228A0-770F-4495-B7E7-F375206EB27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6AC440-EF3A-474F-B10A-4C20D33F45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60A6565-0ADD-4CEC-8E2A-CA8B9B9FB49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6CE8F499-D7D5-4E4A-8E6C-28FE7A4C61C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2000" y="82512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: Checklists for Desig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d Code 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Review Checklis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360" y="1450800"/>
            <a:ext cx="7599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eps in constructing a review checklist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defect data to identify opportunities and prior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checks for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e checks to support the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8200" y="1447920"/>
            <a:ext cx="78609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nsure that your reviews provide the most benefit, your checklists should focus on defect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you the most trou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the most lever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eto distribution will help you to establish priorities.  Create distribution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frequency by categ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cost by categ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A12 describes the procedure for constructing a Pareto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14320" y="1450800"/>
            <a:ext cx="750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you gather more data on defects, it may be necessary to create defect subcategories to complete your analy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if 80% of your defects are of one type (say type 20), subcategories of type 20 may be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example subcategorization is shown in table 8.10 (page 262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s R4 and R5 contain other defect analyses that are useful in building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914400" y="2311560"/>
            <a:ext cx="74725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ising Check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14320" y="1450800"/>
            <a:ext cx="76615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xt step in building checklists is to devise checks for the highest-priority defect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 your defect logs to identify the specific defects that you make and devise checks to find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should be devised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pecific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dress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ising Check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if you often forget to include semicolons at the end of statements, then devise a checklist item for this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too much detail can be overwhelming, review are generally more efficient when each checklist item has a small, easily-tested scope that can be quickly and accurately che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25560" y="2489040"/>
            <a:ext cx="5439960" cy="421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ll statements end with a semicolon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447600" y="2489040"/>
            <a:ext cx="438120" cy="421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rganizing Checklist Ite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01720" y="1450800"/>
            <a:ext cx="7672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nal step in building checklists is to organize your checklist items into 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electing categories, consider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rge similar items into one categ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the categories to support your review strategy an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ample design review and code review checklists illustrate one possible organization that you might u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Review Checklis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07840" y="1434960"/>
            <a:ext cx="37623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C57, page 705, is an exampl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em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nes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218120" y="1566720"/>
          <a:ext cx="456084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1566720"/>
                    <a:ext cx="45608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e Review Checklis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0440" y="1460520"/>
            <a:ext cx="4051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 C58, page 706, is an example code review checklist for C++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s inclu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}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 opera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 by line che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open and clo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924440" y="1587600"/>
          <a:ext cx="397656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4440" y="1587600"/>
                    <a:ext cx="39765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tes About the Exam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1720" y="1450800"/>
            <a:ext cx="7548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checklists are examples; therefore, they should be tailored to your pre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xisting organization standard, consider using it as a starting point for your personal design and code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checklist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hecklists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the design method and notation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the programming language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to addressed that defects that you in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4320" y="1450800"/>
            <a:ext cx="7824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how a checklist is used during the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design and code review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935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, document, and submit design and code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submit your defect logs for assignments 1A-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ecklists should be tailored for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notation and programming language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s of defects that you inje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8760" y="145080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 of PSP reviews is consistently high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yield is the percentage of defects in the product at review time that were found by the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yield is the percentage of defects found before the first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practice, experienced engineers can consistently achieve high process and review yields of about 70% to 80%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360" y="1450800"/>
            <a:ext cx="7861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 are us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the review proces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criteria for judging that the design or code is correct and 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 early defect remo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the review process to support personal defect-injection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duct PSP personal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the process - always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personal checklist that is designed to find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review strategy and use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ne product component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for one topic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 each check as a personal certification that the product is free of this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Review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0800" y="1447920"/>
            <a:ext cx="3246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8.2, page 241, is an example code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hecklists should be designed to support your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4089240" y="1535040"/>
          <a:ext cx="4633920" cy="41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9240" y="1535040"/>
                    <a:ext cx="46339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Review Checklis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onstructing review checklists, your objective is to identify and devise checks for the specific defect type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uild and improve your review checklists, you will ne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ocumented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ata on the errors that you m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on the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can be derived from PSP defect logs and project plan summa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1T13:25:58Z</dcterms:created>
  <dc:creator>Jim Over</dc:creator>
  <dc:description/>
  <dc:language>en-US</dc:language>
  <cp:lastModifiedBy>wrn_loc_adm</cp:lastModifiedBy>
  <cp:lastPrinted>2000-02-29T17:55:00Z</cp:lastPrinted>
  <dcterms:modified xsi:type="dcterms:W3CDTF">2018-09-06T00:16:53Z</dcterms:modified>
  <cp:revision>42</cp:revision>
  <dc:subject/>
  <dc:title>No Slide Title</dc:title>
</cp:coreProperties>
</file>